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43891200" cy="3291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4A4B-0C7D-4EFF-82BD-3C1AE7EAA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E8E3-3BF7-4AC3-BEA2-ECF8D4E4A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6620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3868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9372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6620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3868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60480" y="1273320"/>
            <a:ext cx="419241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6620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43868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9372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06620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43868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60480" y="1273320"/>
            <a:ext cx="419241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6620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438680" y="563868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9372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06620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438680" y="19513440"/>
            <a:ext cx="32115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60480" y="1273320"/>
            <a:ext cx="41924160" cy="10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804640" y="1951344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04640" y="5638680"/>
            <a:ext cx="486720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19513440"/>
            <a:ext cx="9974160" cy="1267056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solidFill>
            <a:srgbClr val="d9d9d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Rectangle 36"/>
          <p:cNvSpPr/>
          <p:nvPr/>
        </p:nvSpPr>
        <p:spPr>
          <a:xfrm>
            <a:off x="0" y="0"/>
            <a:ext cx="43891200" cy="480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33"/>
          <p:cNvSpPr/>
          <p:nvPr/>
        </p:nvSpPr>
        <p:spPr>
          <a:xfrm>
            <a:off x="693720" y="5638680"/>
            <a:ext cx="9974160" cy="265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4800600"/>
            <a:ext cx="43891200" cy="130320"/>
          </a:xfrm>
          <a:prstGeom prst="rect">
            <a:avLst/>
          </a:prstGeom>
          <a:solidFill>
            <a:srgbClr val="7030a0"/>
          </a:solidFill>
          <a:ln w="152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609480" y="32445360"/>
            <a:ext cx="2514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08080"/>
                </a:solidFill>
                <a:latin typeface="Arial"/>
              </a:rPr>
              <a:t>TEMPLATE DESIGN © 2008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8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2"/>
          <p:cNvSpPr/>
          <p:nvPr/>
        </p:nvSpPr>
        <p:spPr>
          <a:xfrm>
            <a:off x="11490480" y="5638680"/>
            <a:ext cx="9982080" cy="265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22272480" y="5638680"/>
            <a:ext cx="9982440" cy="265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Rectangle 35"/>
          <p:cNvSpPr/>
          <p:nvPr/>
        </p:nvSpPr>
        <p:spPr>
          <a:xfrm>
            <a:off x="33078600" y="5638680"/>
            <a:ext cx="9982440" cy="265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43891200" cy="48006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93720" y="5638680"/>
            <a:ext cx="997416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4800600"/>
            <a:ext cx="43891200" cy="13032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09480" y="32445360"/>
            <a:ext cx="2514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93720" y="5638680"/>
            <a:ext cx="997416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11490480" y="5638680"/>
            <a:ext cx="20764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3078600" y="5638680"/>
            <a:ext cx="998244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43891200" cy="480060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93720" y="5638680"/>
            <a:ext cx="42367320" cy="26563680"/>
          </a:xfrm>
          <a:prstGeom prst="rect">
            <a:avLst/>
          </a:prstGeom>
          <a:solidFill>
            <a:srgbClr val="d7d7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800600"/>
            <a:ext cx="43891200" cy="13032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32445360"/>
            <a:ext cx="2514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65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808080"/>
                </a:solidFill>
                <a:latin typeface="Arial"/>
              </a:rPr>
              <a:t>POSTER TEMPLATE BY:</a:t>
            </a:r>
            <a:endParaRPr b="0" lang="en-US" sz="5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6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</a:rPr>
              <a:t>www.PosterPresentations.com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60480" y="1273320"/>
            <a:ext cx="41924160" cy="22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8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93360" y="5638680"/>
            <a:ext cx="42190920" cy="26563680"/>
          </a:xfrm>
          <a:prstGeom prst="rect">
            <a:avLst/>
          </a:prstGeom>
          <a:noFill/>
          <a:ln w="0">
            <a:noFill/>
          </a:ln>
        </p:spPr>
        <p:txBody>
          <a:bodyPr lIns="456480" rIns="456480" tIns="456480" bIns="45648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0"/>
            <a:ext cx="43891200" cy="32918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3.png"/><Relationship Id="rId17" Type="http://schemas.openxmlformats.org/officeDocument/2006/relationships/image" Target="../media/image16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b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22496400" y="6667560"/>
            <a:ext cx="9345600" cy="4821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3622680" y="13730400"/>
            <a:ext cx="3286080" cy="5819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3"/>
          <a:srcRect l="0" t="0" r="29718" b="0"/>
          <a:stretch/>
        </p:blipFill>
        <p:spPr>
          <a:xfrm>
            <a:off x="11998440" y="16424280"/>
            <a:ext cx="8531280" cy="57261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7421400" y="1154160"/>
            <a:ext cx="2930868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 Black"/>
              </a:rPr>
              <a:t>Advanced Low Power Debug using Static Techniques</a:t>
            </a:r>
            <a:endParaRPr b="0" lang="en-US" sz="7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manshu Bhatt - Synopsys, Inc. (U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85800" y="5638680"/>
            <a:ext cx="9982080" cy="57924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hallenges and Motiv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693720" y="6205680"/>
            <a:ext cx="9982080" cy="80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F Debug Challen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design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396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F and design development go hand-in-hand, but schedules va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396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ways, UPF and design need to be cleaned 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low power verif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396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-aware simulation bring up time-consuming, especially at gate-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UPF issues are syntax relate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396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ing X in simulation iterative and time-consum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issues are related to accuracy and completeness of the UP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prototyp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396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ging issues in power aware prototyping is effort-intensiv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imple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396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F implementation runs into UPF-related or MV cell-related erro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396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multiple iterations to clean 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Text Box 388"/>
          <p:cNvSpPr/>
          <p:nvPr/>
        </p:nvSpPr>
        <p:spPr>
          <a:xfrm>
            <a:off x="685800" y="19935720"/>
            <a:ext cx="9982080" cy="57924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C UPF - Early Low Power Verifi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Text Box 405"/>
          <p:cNvSpPr/>
          <p:nvPr/>
        </p:nvSpPr>
        <p:spPr>
          <a:xfrm>
            <a:off x="11490480" y="5626080"/>
            <a:ext cx="9982080" cy="57924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Examp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Text Box 410"/>
          <p:cNvSpPr/>
          <p:nvPr/>
        </p:nvSpPr>
        <p:spPr>
          <a:xfrm>
            <a:off x="11499840" y="15136920"/>
            <a:ext cx="9982080" cy="1066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raging VC LP to Accelerate Low Power Verification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Text Box 417"/>
          <p:cNvSpPr/>
          <p:nvPr/>
        </p:nvSpPr>
        <p:spPr>
          <a:xfrm>
            <a:off x="11507760" y="26209800"/>
            <a:ext cx="9982080" cy="57924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e Study: Mobile SoC Subsy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Text Box 424"/>
          <p:cNvSpPr/>
          <p:nvPr/>
        </p:nvSpPr>
        <p:spPr>
          <a:xfrm>
            <a:off x="22272480" y="5626080"/>
            <a:ext cx="9982440" cy="106668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tching Low Power Bugs Earlier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dictive Chec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Text Box 437"/>
          <p:cNvSpPr/>
          <p:nvPr/>
        </p:nvSpPr>
        <p:spPr>
          <a:xfrm>
            <a:off x="22277520" y="16692480"/>
            <a:ext cx="9982080" cy="57924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ced Analysis and PST Debug Capabiliti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Text Box 461"/>
          <p:cNvSpPr/>
          <p:nvPr/>
        </p:nvSpPr>
        <p:spPr>
          <a:xfrm>
            <a:off x="22272480" y="26200080"/>
            <a:ext cx="9982440" cy="57924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l UPF Analy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Text Box 478"/>
          <p:cNvSpPr/>
          <p:nvPr/>
        </p:nvSpPr>
        <p:spPr>
          <a:xfrm>
            <a:off x="33089760" y="10898280"/>
            <a:ext cx="9982440" cy="57924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L Clustering Based Advanced Debu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Text Box 479"/>
          <p:cNvSpPr/>
          <p:nvPr/>
        </p:nvSpPr>
        <p:spPr>
          <a:xfrm>
            <a:off x="33078600" y="26985960"/>
            <a:ext cx="9982440" cy="579240"/>
          </a:xfrm>
          <a:prstGeom prst="rect">
            <a:avLst/>
          </a:prstGeom>
          <a:solidFill>
            <a:srgbClr val="00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s and Conclus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Picture 11" descr="A picture containing clipart&#13;&#10;&#13;&#10;Description generated with high confidence"/>
          <p:cNvPicPr/>
          <p:nvPr/>
        </p:nvPicPr>
        <p:blipFill>
          <a:blip r:embed="rId4"/>
          <a:stretch/>
        </p:blipFill>
        <p:spPr>
          <a:xfrm>
            <a:off x="1081080" y="1409760"/>
            <a:ext cx="6159600" cy="19652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849240" y="20712240"/>
            <a:ext cx="950616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Independent UPF Check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using UPF can do syntax and semantic checks early in the design cycle when RTL is not rea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reduce verification TAT by avoiding multiple iterations of UPF checking and fixing involving  design reading &amp; elabo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s Covered and Supported Featur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F syntax and semantic chec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F supply analysis based chec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T consistency chec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F network related consistency chec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F TCL comman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point/Restart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UP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d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ile UPF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5"/>
          <a:stretch/>
        </p:blipFill>
        <p:spPr>
          <a:xfrm>
            <a:off x="12061800" y="6218280"/>
            <a:ext cx="8933040" cy="4402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6"/>
          <a:stretch/>
        </p:blipFill>
        <p:spPr>
          <a:xfrm>
            <a:off x="11614320" y="10666440"/>
            <a:ext cx="9720000" cy="4140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11887560" y="16382880"/>
            <a:ext cx="86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static issues upfront saves weeks of time and eff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7"/>
          <a:stretch/>
        </p:blipFill>
        <p:spPr>
          <a:xfrm>
            <a:off x="11879280" y="27047880"/>
            <a:ext cx="9299520" cy="4435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8"/>
          <a:stretch/>
        </p:blipFill>
        <p:spPr>
          <a:xfrm>
            <a:off x="22521960" y="11614320"/>
            <a:ext cx="9653400" cy="4821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"/>
          <p:cNvPicPr/>
          <p:nvPr/>
        </p:nvPicPr>
        <p:blipFill>
          <a:blip r:embed="rId9"/>
          <a:stretch/>
        </p:blipFill>
        <p:spPr>
          <a:xfrm>
            <a:off x="22371120" y="17435520"/>
            <a:ext cx="9790200" cy="477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10"/>
          <a:stretch/>
        </p:blipFill>
        <p:spPr>
          <a:xfrm>
            <a:off x="22929840" y="22283640"/>
            <a:ext cx="8785080" cy="3862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"/>
          <p:cNvPicPr/>
          <p:nvPr/>
        </p:nvPicPr>
        <p:blipFill>
          <a:blip r:embed="rId11"/>
          <a:stretch/>
        </p:blipFill>
        <p:spPr>
          <a:xfrm>
            <a:off x="22463280" y="26812800"/>
            <a:ext cx="9615240" cy="5278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"/>
          <p:cNvPicPr/>
          <p:nvPr/>
        </p:nvPicPr>
        <p:blipFill>
          <a:blip r:embed="rId12"/>
          <a:stretch/>
        </p:blipFill>
        <p:spPr>
          <a:xfrm>
            <a:off x="33181920" y="11495160"/>
            <a:ext cx="9745560" cy="4251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13"/>
          <a:stretch/>
        </p:blipFill>
        <p:spPr>
          <a:xfrm>
            <a:off x="33218280" y="15986160"/>
            <a:ext cx="9582480" cy="5202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"/>
          <p:cNvPicPr/>
          <p:nvPr/>
        </p:nvPicPr>
        <p:blipFill>
          <a:blip r:embed="rId14"/>
          <a:stretch/>
        </p:blipFill>
        <p:spPr>
          <a:xfrm>
            <a:off x="33280200" y="21534480"/>
            <a:ext cx="9458640" cy="48816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"/>
          <p:cNvSpPr/>
          <p:nvPr/>
        </p:nvSpPr>
        <p:spPr>
          <a:xfrm>
            <a:off x="33480360" y="27905040"/>
            <a:ext cx="9447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Independent UPF Checking for both semantics and synta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/ICC II Compatibility checks for UPF flow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ve Checks to make flow better and catch issue earlier at RT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Debug of LP/UPF issues using powerful TCL command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l UPF flow for catching UPF modifications during ECO pha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Learning enabled RCA for reducing overall debug T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15"/>
          <a:stretch/>
        </p:blipFill>
        <p:spPr>
          <a:xfrm>
            <a:off x="33658200" y="5761080"/>
            <a:ext cx="8381880" cy="493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16"/>
          <a:srcRect l="71478" t="0" r="0" b="43167"/>
          <a:stretch/>
        </p:blipFill>
        <p:spPr>
          <a:xfrm>
            <a:off x="16435440" y="22359960"/>
            <a:ext cx="3938400" cy="35402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"/>
          <p:cNvSpPr/>
          <p:nvPr/>
        </p:nvSpPr>
        <p:spPr>
          <a:xfrm>
            <a:off x="11998440" y="22774320"/>
            <a:ext cx="421956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C LP enable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verification TA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ch static bugs upfro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LP simu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sim on dynamic LP bug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quality UPF handoff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methodology &amp; flo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7"/>
          <a:stretch/>
        </p:blipFill>
        <p:spPr>
          <a:xfrm>
            <a:off x="1536840" y="28424160"/>
            <a:ext cx="8008920" cy="3211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A picture containing clipart&#13;&#10;&#13;&#10;Description generated with high confidence"/>
          <p:cNvPicPr/>
          <p:nvPr/>
        </p:nvPicPr>
        <p:blipFill>
          <a:blip r:embed="rId18"/>
          <a:stretch/>
        </p:blipFill>
        <p:spPr>
          <a:xfrm>
            <a:off x="36912600" y="1289160"/>
            <a:ext cx="61596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24:28Z</dcterms:created>
  <dc:creator>A. Kotoulas</dc:creator>
  <dc:description>Non-authorized printing of this poster template by any commercial printing service other than PosterPresentations.com is strictly prohibited.
Non-profit educational printing centers are exempt.
To obtain printing authorization call:
1.866.649.3004
© 2007 Canterbury Media Services, Inc</dc:description>
  <cp:keywords>poster presentation poster design poster template</cp:keywords>
  <dc:language>en-US</dc:language>
  <cp:lastModifiedBy>Himanshu Bhatt</cp:lastModifiedBy>
  <dcterms:modified xsi:type="dcterms:W3CDTF">2019-05-23T00:38:24Z</dcterms:modified>
  <cp:revision>234</cp:revision>
  <dc:subject>Free PowerPoint poster templates</dc:subject>
  <dc:title>48x36 Poster Template</dc:title>
</cp:coreProperties>
</file>